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224-CBB0-478E-BE23-3DBF0027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A97F-D323-43D6-9DD3-B2F58F38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822-D66D-4091-BA07-D977B084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70E-C061-4C9B-A8CC-083B61CC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E8D-9740-463B-80A0-DF4B8037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DFD-687E-42EF-83ED-6C5994E2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5E7-4291-4AB7-8001-0C1E4C95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CF0-2EB1-4CE0-846C-C63EEB34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253-F1D9-44D0-B240-8716252F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5BC-A977-491B-A234-96A55AF1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414-CD2F-45E0-B1ED-1751AF3E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7A4A-DD08-4BE0-8752-5F934C66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C928-6CEE-49A6-B45E-D4CDDA875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M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6, DNA was first used to exonerate a man accused of murder. That year was also the first year DNA was used to convi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began the biggest revolution i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ORENSIC SCI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scientific analysis of evidence for legal investig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Guanine_chemical_structure.png"/>
          <p:cNvPicPr/>
          <p:nvPr/>
        </p:nvPicPr>
        <p:blipFill>
          <a:blip r:embed="rId1"/>
          <a:stretch/>
        </p:blipFill>
        <p:spPr>
          <a:xfrm>
            <a:off x="1944720" y="1685880"/>
            <a:ext cx="525456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Adenine_chemical_structure.png"/>
          <p:cNvPicPr/>
          <p:nvPr/>
        </p:nvPicPr>
        <p:blipFill>
          <a:blip r:embed="rId1"/>
          <a:stretch/>
        </p:blipFill>
        <p:spPr>
          <a:xfrm>
            <a:off x="2800440" y="1685880"/>
            <a:ext cx="35431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all carbon rings with varying single and double bonds. The “C” is usually omitted when writing organic comp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bonds ar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valent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is means that the electrons are being shared between each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hree double bonds found in cyst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double bond contains four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en single bonds found in cyst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ingle bond contains two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dna_bases.gif"/>
          <p:cNvPicPr/>
          <p:nvPr/>
        </p:nvPicPr>
        <p:blipFill>
          <a:blip r:embed="rId1"/>
          <a:stretch/>
        </p:blipFill>
        <p:spPr>
          <a:xfrm>
            <a:off x="2666880" y="1905120"/>
            <a:ext cx="3810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phosphate.jpg"/>
          <p:cNvPicPr/>
          <p:nvPr/>
        </p:nvPicPr>
        <p:blipFill>
          <a:blip r:embed="rId1"/>
          <a:stretch/>
        </p:blipFill>
        <p:spPr>
          <a:xfrm>
            <a:off x="2590920" y="1828800"/>
            <a:ext cx="42670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oxyribose sug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deoxyribose sugar.jpg"/>
          <p:cNvPicPr/>
          <p:nvPr/>
        </p:nvPicPr>
        <p:blipFill>
          <a:blip r:embed="rId1"/>
          <a:stretch/>
        </p:blipFill>
        <p:spPr>
          <a:xfrm>
            <a:off x="3041640" y="2674800"/>
            <a:ext cx="3060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mer: a single unit containing a phosphate group, and the deoxyribose sug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monomers are then repeated and linked in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lynucleotid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lymers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y are held together with covalent b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ar-phosphate backb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backbone II.jpg"/>
          <p:cNvPicPr/>
          <p:nvPr/>
        </p:nvPicPr>
        <p:blipFill>
          <a:blip r:embed="rId1"/>
          <a:stretch/>
        </p:blipFill>
        <p:spPr>
          <a:xfrm>
            <a:off x="1219320" y="2209680"/>
            <a:ext cx="48956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ses then hang off these like half rungs of a 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nucleotides are then linked together in the famous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double heli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technology is used in genetically modified food (corn), medicine and agri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stands for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oxyribo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cleic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huge molecules with molecular weights of 6 million – 16 million a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se pairs held together by hydrogen bonding which are weaker than coval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hydrogen bonded dna.gif"/>
          <p:cNvPicPr/>
          <p:nvPr/>
        </p:nvPicPr>
        <p:blipFill>
          <a:blip r:embed="rId1"/>
          <a:stretch/>
        </p:blipFill>
        <p:spPr>
          <a:xfrm>
            <a:off x="3533760" y="2440080"/>
            <a:ext cx="20764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5" descr="double helix.jpg"/>
          <p:cNvPicPr/>
          <p:nvPr/>
        </p:nvPicPr>
        <p:blipFill>
          <a:blip r:embed="rId1"/>
          <a:stretch/>
        </p:blipFill>
        <p:spPr>
          <a:xfrm>
            <a:off x="3048120" y="2209680"/>
            <a:ext cx="3124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double helix II.jpg"/>
          <p:cNvPicPr/>
          <p:nvPr/>
        </p:nvPicPr>
        <p:blipFill>
          <a:blip r:embed="rId1"/>
          <a:stretch/>
        </p:blipFill>
        <p:spPr>
          <a:xfrm>
            <a:off x="3276720" y="2286000"/>
            <a:ext cx="2971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double helix III.jpg"/>
          <p:cNvPicPr/>
          <p:nvPr/>
        </p:nvPicPr>
        <p:blipFill>
          <a:blip r:embed="rId1"/>
          <a:stretch/>
        </p:blipFill>
        <p:spPr>
          <a:xfrm>
            <a:off x="2895480" y="2209680"/>
            <a:ext cx="2752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double helix iv.jpg"/>
          <p:cNvPicPr/>
          <p:nvPr/>
        </p:nvPicPr>
        <p:blipFill>
          <a:blip r:embed="rId1"/>
          <a:stretch/>
        </p:blipFill>
        <p:spPr>
          <a:xfrm>
            <a:off x="2835360" y="1600200"/>
            <a:ext cx="347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gene.jpg"/>
          <p:cNvPicPr/>
          <p:nvPr/>
        </p:nvPicPr>
        <p:blipFill>
          <a:blip r:embed="rId1"/>
          <a:stretch/>
        </p:blipFill>
        <p:spPr>
          <a:xfrm>
            <a:off x="2666880" y="233856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is one of the tw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ucleic acid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und in eukaryote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ther is RNA: ribonucleic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nam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uclei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they are found inside the nucleus of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 NOT GET THIS NUCLEUS CONFUSED WITH THE NUCLEUS OF THE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is a molecule made up of compounds which are made up of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lements making up DNA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elements combine chemically to form comp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parts to a DN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ucleoti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clud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 base pair containing nit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 phosphate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a sugar group (deoxyribose for DNA, ribose for R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gar and phosphate groups are the same in each of the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fference will be in the nitrogen ba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den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uan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hym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cytos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5" descr="basemolecules.gif"/>
          <p:cNvPicPr/>
          <p:nvPr/>
        </p:nvPicPr>
        <p:blipFill>
          <a:blip r:embed="rId1"/>
          <a:stretch/>
        </p:blipFill>
        <p:spPr>
          <a:xfrm>
            <a:off x="2508120" y="1600200"/>
            <a:ext cx="412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cytosine-chemical-structure.png"/>
          <p:cNvPicPr/>
          <p:nvPr/>
        </p:nvPicPr>
        <p:blipFill>
          <a:blip r:embed="rId1"/>
          <a:stretch/>
        </p:blipFill>
        <p:spPr>
          <a:xfrm>
            <a:off x="3276720" y="2057400"/>
            <a:ext cx="2666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Thymine_chemical_structure.png"/>
          <p:cNvPicPr/>
          <p:nvPr/>
        </p:nvPicPr>
        <p:blipFill>
          <a:blip r:embed="rId1"/>
          <a:stretch/>
        </p:blipFill>
        <p:spPr>
          <a:xfrm>
            <a:off x="2638440" y="1785960"/>
            <a:ext cx="38671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2:34:36Z</dcterms:created>
  <dc:creator>jmngying</dc:creator>
  <dc:description/>
  <dc:language>en-US</dc:language>
  <cp:lastModifiedBy>jmngying</cp:lastModifiedBy>
  <dcterms:modified xsi:type="dcterms:W3CDTF">2011-06-08T14:51:52Z</dcterms:modified>
  <cp:revision>21</cp:revision>
  <dc:subject/>
  <dc:title>STEM PROJECT</dc:title>
</cp:coreProperties>
</file>